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7.jpeg" ContentType="image/jpeg"/>
  <Override PartName="/ppt/media/image15.gif" ContentType="image/gif"/>
  <Override PartName="/ppt/media/image12.wmf" ContentType="image/x-wmf"/>
  <Override PartName="/ppt/media/image19.jpeg" ContentType="image/jpeg"/>
  <Override PartName="/ppt/media/image18.jpeg" ContentType="image/jpeg"/>
  <Override PartName="/ppt/media/image14.wmf" ContentType="image/x-wmf"/>
  <Override PartName="/ppt/media/image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13.gif" ContentType="image/gif"/>
  <Override PartName="/ppt/media/image16.jpeg" ContentType="image/jpeg"/>
  <Override PartName="/ppt/media/image6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2523-2492-4ADC-A252-F08EBFCD6EC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BA66-A892-49A5-9277-11BDB35812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5EB9-DD19-4DF2-81F3-0DFA3E6257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1641-850F-46A3-9B4E-FA0A8429F9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C2A1-CC5D-40AD-9780-AB42896A68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F111-8C49-4E59-A735-0C0A772314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EABB-3E8D-4CD1-AB82-5CDA714735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9D44-A1FB-4EDE-B985-E5AAE3DD20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D3C1-B2B3-470D-B711-8313A8488C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655E-E8DB-4CA5-B4F6-0BBAAF6AF3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4E32-2A9A-46E5-8BC7-F954A75218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C5D1-8602-4CFA-8F6A-25932B0A7E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FBB2-EE14-48D2-B98A-4E1BC158EE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0286-AB8E-42A7-850E-36A7C31ED3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519E-A8D0-45FC-B1C6-78187124A6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D43E-443C-4813-B257-AB7AE76404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924A-EF53-4E6C-B138-ADB0E0430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E638-CBEF-41DB-9421-9BA6B810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DF52-5E81-43B9-ABB8-479557706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CBE8-0150-4A41-A51A-778DA29F4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D3D5-E82F-47F4-8DCA-7E1063881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4390-FE1C-4357-961D-3E63E4FE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FBC0-7468-4A97-8C5C-8BFEC3BA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5E7F-138B-43D4-B0A7-694979A9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5357-74F8-4357-8A93-DA7AD1B2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906E-3958-45ED-8112-5EBC3923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42BE5-2EB4-4AA9-9ADB-5DE5E031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9B6A-BFBD-4A05-9806-2BA5E324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5A4D-8FE0-45A3-A2DB-6DBF9CFA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5C64-D3C3-4AB7-A8D5-04383417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5EBCA-7983-442F-887D-8AC4B779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8AAE-A296-4AFC-85B8-DD00FFE2B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2CF3-2A22-45EA-AB48-55209666B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6C43E-5E4F-44A1-8794-9AFF4D76A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7834D-16A6-4C7C-939B-D1BEA910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E92C9-387A-47BF-90CC-B7BBD944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D1D99-0F71-48D7-B293-1E6EE6A1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8EA95-3BAA-4C14-A476-FC921EE7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6E37-C250-4763-969F-6C435A91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76E4E-7DA9-461D-ADE8-7447ED17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AD419-C70C-47FA-A3CA-D2982CA7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663B8-FBDF-4B53-B001-2AE6A46B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F719D-4C0C-4C88-8749-E83520D1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FE875-7690-4FD2-A4D6-05493425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105C2-187B-48A1-8594-0EE1A2082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AB3E0-2971-40B1-AA62-956EE2924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9913D-5D2F-4210-AD0C-447F9F552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F3273-0C5F-44D8-83D8-2202A3D2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9D633-47E9-4F82-9482-55ED2E59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3EAD-E455-45BE-A568-CB20544A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70A5C-61A9-4480-A33D-75CCFCD5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F44D1-F04E-4B73-B45E-B44BAE30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10761-EFD8-4800-B5F9-CA2D0B65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3E118-3469-4B99-93D3-7B0A65EA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3A0C8-75C3-4857-8E6B-9F300E8A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A3C05-44A0-436B-BEAD-79FC7F81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B2AD8-93CA-4697-BB6F-581D23E1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01524-EB6D-46AA-B078-161BB0502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66B40-ADA9-4B04-B54A-4A9D0851E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8242F-7A13-4B84-ACED-6E42DE6CE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82CA-2C6C-402F-BDCC-50A91B93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73CF0-28F4-4C9E-86DA-8B17F672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23176-BAD8-4EE7-A515-33EF07A3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11698-03BF-4FB4-A41D-F56A161D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BC10B-8161-4FA0-B924-4E982C70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35826-38F4-47DD-AE9A-F1267720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3776B-D791-4BD3-BE5A-4A101239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166E4-C725-4331-98E1-E213E72E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751A2-B973-43D8-AFD6-4A25921A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FB460-91E0-49E0-A3B6-86D79DBA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F7371-71F8-4726-BD9F-2031209EA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39C9-33D3-467A-8F98-E2DE7335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2C7EB-69EA-4CB9-A6C6-A445BFED6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2FCBC-509D-4455-80F3-C4D8C5574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42E31-A5B4-497D-8EF3-E12BBF91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AB455-A046-48E4-B069-0B55BB2F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FEB43-7334-4F94-A07C-DE03322B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C95C9-7400-4B2A-81C6-65F5597D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9BAD6-95F3-40CC-AE27-EEA926B9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87B0A-C2C2-4293-BA96-56B980E4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D970C-9205-43C0-B9D4-4FBE2BA3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DF8D3-FC6C-4008-8101-B2AD4CB9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422C-E9BA-4293-B6C0-4A3E867B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678CF-E20D-41D5-A614-64DB479B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67434-EE75-4473-9216-C91C49E94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4782A-1F94-44CA-8F98-3D3D2A440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DE83D-9324-4DD3-A22A-110A68B8B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6FE30-4DAF-4E44-AAF2-14C40F17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C77FA-A382-4114-B206-374906B3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A0FF2-6F46-4567-8EE4-C8AAC9B4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3CD2F-8257-4ED9-A9D5-FC0CB482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C31AC-036E-41DA-B5CA-E3A148E4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22E33-B15D-45CA-B7EA-0280EDD1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E63E-A89F-4E7A-98AD-D861AC25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2ED0C-7227-48EC-B5BA-47862C11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FF2F2-85F4-44A8-B1BC-0972DF94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160A6-86F3-4F7D-AE09-7A386CF9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B2397-C80B-478D-912B-64C081061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12D9C-EB1A-40BA-AF09-2A6997365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40841-7557-4820-81E9-CB910BFA5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40FF0-779D-474D-BF34-F1A08DF9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EF187-342B-401C-A8BA-76ECD8B0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1C9F4-47F3-47CE-943A-6FD62266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B9924-F45C-4C6D-8BA1-4D2A01A4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D36D-9EB8-4C7B-858C-EA07596F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79C1A-CCDF-49BA-8E4B-8D4C0E3F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ED65E-BAD7-4D29-9408-496FE70B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6BC98-9C5E-4087-84A7-BF4C17DC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2966A-1029-4437-98D4-3B9A0ADF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C0AD0-85DB-4F17-9AA0-D276689C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BD0C3-C683-4192-9D55-CFACC4DE5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7C39E-2554-4239-8140-C25780A97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F251-109D-4B9C-8C8D-B982BFFD06C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0D7C-F101-4A4A-9944-E05A6819B6C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2879-1190-410D-AB71-571EFA915BE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E471-90C7-4AB0-B218-6F4BAD8DBE6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386B-F551-4DEC-A65E-9DFCB74D49C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72E6-4680-416D-B87A-798DBC69F12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6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1194-0B8B-4A8B-AE4F-278732DE84C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1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774D-F069-4A9C-AFDA-2AB5443E7DF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gif"/><Relationship Id="rId3" Type="http://schemas.openxmlformats.org/officeDocument/2006/relationships/image" Target="../media/image14.wm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Вершинин Никита.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Родился 20</a:t>
            </a: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октября 1998г. 3 а класс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Александр Кержак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вард сборной России по футболу Александр Кержаков. Он является одним из самых молодых и перспективных нападающих нашего футбол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8" name="Picture 7" descr="5de0018i"/>
          <p:cNvPicPr/>
          <p:nvPr/>
        </p:nvPicPr>
        <p:blipFill>
          <a:blip r:embed="rId1"/>
          <a:stretch/>
        </p:blipFill>
        <p:spPr>
          <a:xfrm>
            <a:off x="4703760" y="1676520"/>
            <a:ext cx="3490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ергей Овчинник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тарь сборной России по футболу Сергей Овчинников. На протяжении нескольких лет он с успехом защищает ворота главной команды страны, а также московского «Локомотива» в составе которого в 2002 году Сергей стал чемпионом Росс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1" name="Picture 7" descr="5de0017i"/>
          <p:cNvPicPr/>
          <p:nvPr/>
        </p:nvPicPr>
        <p:blipFill>
          <a:blip r:embed="rId1"/>
          <a:stretch/>
        </p:blipFill>
        <p:spPr>
          <a:xfrm>
            <a:off x="4648320" y="2014560"/>
            <a:ext cx="35049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ля справ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1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 Россию футбол пришел в конце 19 век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ризнанными лидерами мирового футбола в Европе являются сборные команды Франции, Германии, Англии, Италии, Испании, в Южной Америке — бразильцы, аргентинцы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Крупнейшими футбольными турнирами являются чемпионат мира и чемпионат Европы, которые проводятся раз в четыре год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Футбол — олимпийский вид, но победа на Олимпиаде не считается высшим достижением в футболе (в отличие от других видов); главный турнир — чемпионат мир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Лучшие тренеры сборных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Гус Хиддинк занял второе место в списке лучших тренеров сборных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еждународная федерация футбольной истории и статистики (IFFHS) подвела итоги опроса своих экспертов, которые выбирали лучшего среди главных тренеров национальных сборных 2008 года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а первом месте оказался 70-летний Луис Арагонес, приведший команду Испании к званию чемпиона Европы. Вторую строчку занял главный тренер российской команды Гус Хиддинк, а замкнул тройку наставник турецкой сборной Фатих Терим, которая, как и российская, стала бронзовым призером ЕВРО-2008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есёлые картин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97" name="Picture 13" descr="j0301476"/>
          <p:cNvPicPr/>
          <p:nvPr/>
        </p:nvPicPr>
        <p:blipFill>
          <a:blip r:embed="rId1"/>
          <a:stretch/>
        </p:blipFill>
        <p:spPr>
          <a:xfrm>
            <a:off x="1577880" y="1919160"/>
            <a:ext cx="1797120" cy="15480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4" descr="j0323802"/>
          <p:cNvPicPr/>
          <p:nvPr/>
        </p:nvPicPr>
        <p:blipFill>
          <a:blip r:embed="rId2"/>
          <a:stretch/>
        </p:blipFill>
        <p:spPr>
          <a:xfrm>
            <a:off x="4952880" y="1828800"/>
            <a:ext cx="2895840" cy="22096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5" descr="j0396714"/>
          <p:cNvPicPr/>
          <p:nvPr/>
        </p:nvPicPr>
        <p:blipFill>
          <a:blip r:embed="rId3"/>
          <a:stretch/>
        </p:blipFill>
        <p:spPr>
          <a:xfrm>
            <a:off x="1562040" y="4243320"/>
            <a:ext cx="1828800" cy="15778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6" descr="soccer_ref_red_card_md_wht"/>
          <p:cNvPicPr/>
          <p:nvPr/>
        </p:nvPicPr>
        <p:blipFill>
          <a:blip r:embed="rId4"/>
          <a:stretch/>
        </p:blipFill>
        <p:spPr>
          <a:xfrm>
            <a:off x="5486400" y="4460760"/>
            <a:ext cx="163836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ир Мяч, Мяч Милан, Мяч Реал, Обычный Мяч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402" name="Picture 9" descr="мир мяч"/>
          <p:cNvPicPr/>
          <p:nvPr/>
        </p:nvPicPr>
        <p:blipFill>
          <a:blip r:embed="rId1"/>
          <a:stretch/>
        </p:blipFill>
        <p:spPr>
          <a:xfrm>
            <a:off x="1295280" y="1905120"/>
            <a:ext cx="1828800" cy="14475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0" descr="мяч милан"/>
          <p:cNvPicPr/>
          <p:nvPr/>
        </p:nvPicPr>
        <p:blipFill>
          <a:blip r:embed="rId2"/>
          <a:stretch/>
        </p:blipFill>
        <p:spPr>
          <a:xfrm>
            <a:off x="6024600" y="204948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1" descr="мЯч реал"/>
          <p:cNvPicPr/>
          <p:nvPr/>
        </p:nvPicPr>
        <p:blipFill>
          <a:blip r:embed="rId3"/>
          <a:stretch/>
        </p:blipFill>
        <p:spPr>
          <a:xfrm>
            <a:off x="1857240" y="4413240"/>
            <a:ext cx="1238400" cy="12384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4" descr="j0404938"/>
          <p:cNvPicPr/>
          <p:nvPr/>
        </p:nvPicPr>
        <p:blipFill>
          <a:blip r:embed="rId4"/>
          <a:stretch/>
        </p:blipFill>
        <p:spPr>
          <a:xfrm>
            <a:off x="5135400" y="3938760"/>
            <a:ext cx="30639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Биография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ршинин Никита Андреевич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ченик 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 класса школы № 10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рождения: 20 октября 1998г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влекаюсь футболом и плаванье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Футбо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Девятикратный чемпион России по футболу — московский «Спартак». Сезон 1998/1999 год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5" descr="footbol"/>
          <p:cNvPicPr/>
          <p:nvPr/>
        </p:nvPicPr>
        <p:blipFill>
          <a:blip r:embed="rId1"/>
          <a:stretch/>
        </p:blipFill>
        <p:spPr>
          <a:xfrm>
            <a:off x="4648320" y="251604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ональдо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учший нападающий современной бразильской сборной — Рональдо. В финальном матче чемпионата мира 2002 года Бразилия — Германия он забил оба мяча своей сборной и принес Бразилии пятый титул чемпионов мир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1" name="Picture 7" descr="RONALi"/>
          <p:cNvPicPr/>
          <p:nvPr/>
        </p:nvPicPr>
        <p:blipFill>
          <a:blip r:embed="rId1"/>
          <a:stretch/>
        </p:blipFill>
        <p:spPr>
          <a:xfrm>
            <a:off x="4876920" y="1905120"/>
            <a:ext cx="264456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Это интересно!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2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утбол — бесспорно, самая популярная и самая массовая спортивная игра. В нее играют на всех континентах от школьника до убеленных сединой мужей. Футбол — это скорость, сила, ловкость, быстрота реакц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2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одина футбола — Англия. И само слово «футбол» английское, оно произошло от foot — нога и ball — мяч. Однако еще две тысячи лет назад, задолго до того, как кожаный мяч появился в Англии, в него играли юноши в Древнем Китае. Игра с мячом была широко распространена и в Древней Греции. У греков игру в мяч заимствовали римляне. Она стала любимым развлечением римских воинов, которые играли мячом из толстой воловьей кожи, набитой соломой. Благодаря Риму в 14 веке эта игра стала известна на Британских островах. В средневековый английский футбол играли азартно, но очень грубо. Сама игра превращалась часто в дикую свалку на улицах. Власти вели упорную войну с футболом; были изданы даже королевские указы о запрещении игры. Но популярность футбола была настолько велика, что никакие указы не могли остановить ее триумфальное шествие. Именно тогда футбол получил свое нынешнее название. В 1863 году была основана первая в мире футбольная ассоциация и разработаны официальные правила игры, в 1904 году возникла Международная федерация футбольных ассоциац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2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ел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1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дин из самых знаменитых футболистов в мире бразильский нападающий Пеле очень точно подметил: «Футбол — это трудная игра, ведь в нее играют ногами, а думать надо головой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динственный футболист в истории, который становился трехкратным чемпионом мира в качестве игрока (1958, 1962, 1970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6" name="Picture 7" descr="pele1"/>
          <p:cNvPicPr/>
          <p:nvPr/>
        </p:nvPicPr>
        <p:blipFill>
          <a:blip r:embed="rId1"/>
          <a:stretch/>
        </p:blipFill>
        <p:spPr>
          <a:xfrm>
            <a:off x="5105520" y="1752480"/>
            <a:ext cx="2501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Лев Яшин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Золотой мяч» — высшая награда для европейских футболистов. Лев Яшин стал его обладателем в 1963 г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7" descr="yash1"/>
          <p:cNvPicPr/>
          <p:nvPr/>
        </p:nvPicPr>
        <p:blipFill>
          <a:blip r:embed="rId1"/>
          <a:stretch/>
        </p:blipFill>
        <p:spPr>
          <a:xfrm>
            <a:off x="5110200" y="1600200"/>
            <a:ext cx="3114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ишель Платин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ранцуз Мишель Платини несколько раз признавался лучшим футболистом Европы. В 1984 году в составе сборной Франции он стал чемпионом Европы. Наибольшую известность получил, играя за итальянский клуб «Ювентус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Picture 7" descr="platini1"/>
          <p:cNvPicPr/>
          <p:nvPr/>
        </p:nvPicPr>
        <p:blipFill>
          <a:blip r:embed="rId1"/>
          <a:stretch/>
        </p:blipFill>
        <p:spPr>
          <a:xfrm>
            <a:off x="5154480" y="1600200"/>
            <a:ext cx="3025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иего Марадон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ающийся аргентинский футболист Марадона —  один из лучших нападающих в истории мирового футбол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7" descr="marad"/>
          <p:cNvPicPr/>
          <p:nvPr/>
        </p:nvPicPr>
        <p:blipFill>
          <a:blip r:embed="rId1"/>
          <a:stretch/>
        </p:blipFill>
        <p:spPr>
          <a:xfrm>
            <a:off x="5148360" y="1600200"/>
            <a:ext cx="3038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 Петровна</cp:lastModifiedBy>
  <dcterms:modified xsi:type="dcterms:W3CDTF">2009-08-17T15:13:46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